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CAC-53FA-4A4C-B8CA-63ECB06F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923-9997-4B6F-B837-2A80C89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B94-C036-4CFD-B675-6D1E75A5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04A-E2C2-49A1-A2F1-C30A8539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66A-3603-47FC-95F4-48BD514A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1B0-62BD-461E-99A7-BEBD7FE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18E-C652-4C33-B266-40DF8560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ABB2-1EB3-4AE2-B393-673E58C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E09C-FC0E-4EF6-8211-2DAC802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340-7761-466C-BF34-D9676E2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BDC-7785-4F57-9C72-EEA91DE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DE0-C0E4-472F-9D57-35B9BDF5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AEA-6E05-48F3-A70E-36D19BA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1F55-E47C-454E-8A7C-82B2D89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CEEA-0D5A-40C5-B617-DA16EFD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52CE-207C-4A20-B43A-041176C9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6F31-04EA-4F1B-9AF3-EA4D9DC1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FC2-003B-4946-BE7F-2A30476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464-C7EE-4416-B7BB-102FB911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FB3-3FC6-4158-84F7-34941DC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E79-5501-4DC7-9994-382738A5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8EE-2684-4EC9-BCDD-5B3975C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50F-837D-420B-A2D9-6EA781E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33C-F36D-4A27-BF2A-E7D1434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5587-61FF-4604-B770-A248DFC29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8938-A3B0-44FC-BEA5-529A40F71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1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COPMG Notif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will document and share their internal communication/escalation process with CCWG, and then will bring to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d Nod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yste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ERCOT; 10:00am – 3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Nodal Material into COP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huck Moore</cp:lastModifiedBy>
  <dcterms:modified xsi:type="dcterms:W3CDTF">2007-12-20T14:52:15Z</dcterms:modified>
  <cp:revision>36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16656314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Draft Agenda and Request for Materials</vt:lpwstr>
  </property>
  <property fmtid="{D5CDD505-2E9C-101B-9397-08002B2CF9AE}" pid="6" name="_NewReviewCycle">
    <vt:lpwstr/>
  </property>
</Properties>
</file>